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7979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2463-1061-4651-8E41-3268D00C3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tion is to give a high level overview of where we are on the supplier obli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you will be familiar with some of these points from previous discu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06EE-CDF0-4AB6-BA44-6CF711AAB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235B-9DBA-43C3-8427-7292CB720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to final government clearance it is our intention to publish an update on the supplier obligation this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brief overview of the cont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 our response to the call for evidence and our initial analysis.  This will include publishing all of the responses we received, these will be red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our approach to the levy we have indicated that we are minded to implement a unit cost fixed levy – this is subject to further detailed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a high level outline of the approach to settlement – including the proposal for daily settlement based on II data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s the next steps in terms of policy development and secondary legi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A67B-A9C1-4F39-AAB6-B1BFC5F53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5492-B123-497D-89D8-E79C6251E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4A4C-48F3-475A-AA1E-BCA7CA08B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mentioned the direction of travel should be published very shortly that gives more clarity on key decision questions around the supplier obli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will continue to undertake further analysis on the costs and impacts of the variable and fixed rate levy options to come to a firmer position on some of the design details.  We will engage industry on this through the collaborative development process, which should be taking place through September and Octo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October we currently plan a consultation on the draft regulations. Following this consultation, the regulations will be finalised in earl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5FCF-BF1B-4C0D-A763-B3F3491FA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99640" y="409500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688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3152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340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9964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3152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340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00000" y="142920"/>
            <a:ext cx="5400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3688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99640" y="409500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3688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3152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198864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9964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3152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3400" y="4095000"/>
            <a:ext cx="2410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0000" y="142920"/>
            <a:ext cx="5400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6880" y="409500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880" y="1988640"/>
            <a:ext cx="36540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99640" y="4095000"/>
            <a:ext cx="748836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ont com"/>
          <p:cNvPicPr/>
          <p:nvPr/>
        </p:nvPicPr>
        <p:blipFill>
          <a:blip r:embed="rId2"/>
          <a:srcRect l="8195" t="20127" r="7842" b="77695"/>
          <a:stretch/>
        </p:blipFill>
        <p:spPr>
          <a:xfrm>
            <a:off x="0" y="1268280"/>
            <a:ext cx="9144000" cy="1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797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7b79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pic>
        <p:nvPicPr>
          <p:cNvPr id="3" name="Picture 2" descr="DECC_CYAN_AW"/>
          <p:cNvPicPr/>
          <p:nvPr/>
        </p:nvPicPr>
        <p:blipFill>
          <a:blip r:embed="rId3"/>
          <a:stretch/>
        </p:blipFill>
        <p:spPr>
          <a:xfrm>
            <a:off x="7451640" y="189000"/>
            <a:ext cx="148608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front com"/>
          <p:cNvPicPr/>
          <p:nvPr/>
        </p:nvPicPr>
        <p:blipFill>
          <a:blip r:embed="rId2"/>
          <a:srcRect l="8195" t="20127" r="7842" b="7306"/>
          <a:stretch/>
        </p:blipFill>
        <p:spPr>
          <a:xfrm>
            <a:off x="0" y="1268280"/>
            <a:ext cx="9144000" cy="55882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DECC_CYAN_AW"/>
          <p:cNvPicPr/>
          <p:nvPr/>
        </p:nvPicPr>
        <p:blipFill>
          <a:blip r:embed="rId3"/>
          <a:stretch/>
        </p:blipFill>
        <p:spPr>
          <a:xfrm>
            <a:off x="7451640" y="189000"/>
            <a:ext cx="1486080" cy="99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5400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b797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99640" y="198864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3" marL="1600200" indent="-228600">
              <a:spcBef>
                <a:spcPts val="425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4" marL="2057400" indent="-228600">
              <a:spcBef>
                <a:spcPts val="425"/>
              </a:spcBef>
              <a:buClr>
                <a:srgbClr val="7b79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b7979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GB" sz="4500" spc="-1" strike="noStrike">
                <a:solidFill>
                  <a:srgbClr val="ffffff"/>
                </a:solidFill>
                <a:latin typeface="Arial"/>
              </a:rPr>
              <a:t>Supplier Obligation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endParaRPr b="1" lang="en-US" sz="4500" spc="-1" strike="noStrike">
              <a:solidFill>
                <a:srgbClr val="7b79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b7979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Outline the supplier obligation (SO) publication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To seek the group’s views on: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The approach to forecasting a fixed rate levy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Impact of a fixed rate on market liquidity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900000" y="17100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Aims of the session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79280" y="6308640"/>
            <a:ext cx="93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27236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Direction of travel of the SO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Response to call for evidence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Publishing responses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Outline of next steps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00000" y="17100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Publication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9280" y="6308640"/>
            <a:ext cx="93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844280"/>
            <a:ext cx="661680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00000" y="17100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Supplier obligation timeline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1"/>
          <a:stretch/>
        </p:blipFill>
        <p:spPr>
          <a:xfrm>
            <a:off x="468360" y="2139840"/>
            <a:ext cx="8204040" cy="3376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4"/>
          <p:cNvSpPr/>
          <p:nvPr/>
        </p:nvSpPr>
        <p:spPr>
          <a:xfrm>
            <a:off x="179280" y="6308640"/>
            <a:ext cx="93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There are a number of options for the forecasting period under a fixed rate levy, including: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b7979"/>
                </a:solidFill>
                <a:latin typeface="Arial"/>
              </a:rPr>
              <a:t>A fixed year or a rolling year </a:t>
            </a:r>
            <a:endParaRPr b="0" lang="en-US" sz="2200" spc="-1" strike="noStrike">
              <a:solidFill>
                <a:srgbClr val="7b797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7b7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b7979"/>
                </a:solidFill>
                <a:latin typeface="Arial"/>
              </a:rPr>
              <a:t>A rate for a 12 month or 18 month period or daily rate</a:t>
            </a:r>
            <a:endParaRPr b="0" lang="en-US" sz="22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What are your views on the approach to forecasting?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When is the earliest/latest time to be notified of the estimated rate?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900000" y="17100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Forecasting for a fixed rate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9280" y="6308640"/>
            <a:ext cx="93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42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b7979"/>
                </a:solidFill>
                <a:latin typeface="Arial"/>
              </a:rPr>
              <a:t>Generators have concerns on the impact of a fixed rate levy on market liquidity, including:</a:t>
            </a:r>
            <a:endParaRPr b="0" lang="en-US" sz="28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b7979"/>
                </a:solidFill>
                <a:latin typeface="Arial"/>
              </a:rPr>
              <a:t>Moving away from a fully variable levy could remove any incentive to enter into a number of PPAs (with a geographical spread) to hedge against volume risk;</a:t>
            </a:r>
            <a:endParaRPr b="0" lang="en-US" sz="22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b7979"/>
                </a:solidFill>
                <a:latin typeface="Arial"/>
              </a:rPr>
              <a:t>A fixed unit rate (option 3) would remove the need to achieve the reference price, but then also create an unhedgable risk in the form of the year+1 reconciliation   </a:t>
            </a:r>
            <a:endParaRPr b="0" lang="en-US" sz="22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b797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b7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b7979"/>
                </a:solidFill>
                <a:latin typeface="Arial"/>
              </a:rPr>
              <a:t>How do you think a fixed rate levy would impact on your approach to hedging and enter into contract with low carbon generators?</a:t>
            </a:r>
            <a:endParaRPr b="0" lang="en-US" sz="22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797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00000" y="17100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Fixed rate levy – liquidity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280" y="6308640"/>
            <a:ext cx="93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5400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7b7979"/>
                </a:solidFill>
                <a:latin typeface="Arial"/>
              </a:rPr>
              <a:t>Next Steps</a:t>
            </a:r>
            <a:endParaRPr b="1" lang="en-US" sz="2200" spc="-1" strike="noStrike">
              <a:solidFill>
                <a:srgbClr val="7b7979"/>
              </a:solidFill>
              <a:latin typeface="Arial"/>
            </a:endParaRPr>
          </a:p>
        </p:txBody>
      </p:sp>
      <p:pic>
        <p:nvPicPr>
          <p:cNvPr id="105" name="Diagram 5" descr=""/>
          <p:cNvPicPr/>
          <p:nvPr/>
        </p:nvPicPr>
        <p:blipFill>
          <a:blip r:embed="rId1"/>
          <a:stretch/>
        </p:blipFill>
        <p:spPr>
          <a:xfrm>
            <a:off x="334800" y="1596960"/>
            <a:ext cx="8498160" cy="4011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79280" y="630864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EMR Expert Group papers are not a statement of Government policy or policy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40:11Z</dcterms:created>
  <dc:creator>beer</dc:creator>
  <dc:description/>
  <dc:language>en-US</dc:language>
  <cp:lastModifiedBy>Collyer Lucy (Energy Markets and Networks)</cp:lastModifiedBy>
  <cp:lastPrinted>2013-08-06T10:52:17Z</cp:lastPrinted>
  <dcterms:modified xsi:type="dcterms:W3CDTF">2013-08-07T16:15:01Z</dcterms:modified>
  <cp:revision>18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A42F145830E9C4DA7DD0FA0AD8C4B3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